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A90C9-DA31-4935-98A4-78C74B30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5A982-4663-498A-A9EA-C9DF1FC1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F7F03-8F3E-4728-9DEC-C3BC90CC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1D8B1-3C38-4169-B5D1-B0E4DE28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243B-A1E6-413A-AD8A-66546BB7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A69B-FC5D-4EE6-B665-7B6C45D6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AB2F-CFE4-4D55-ADD8-EB11CB87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E305-03EA-4376-A7A7-19B7211B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EE1C-BC74-4059-89F1-966F394D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8D59-3EE1-4214-B0B4-DF57FCB7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6F84-BD14-40EF-B260-DD2899A6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3CD78-3297-4AEC-9CCB-316F47D0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9B64-66E6-4954-8DF8-2636D49D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D70A-2DDD-46A7-829C-7BB80082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D627-F80C-4770-8FE9-018EE3A3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6CF9-2DFF-4A5A-BCAC-C883694B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4A2C-7EE3-4DD7-8B12-E6153C43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BCF46-CD4E-466F-AB81-179A08AA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59042-BD36-4126-A80F-1E3391C2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AA96C-63FB-44B1-9A08-2AAC649D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A865D-FC73-4AB7-B258-4EB50FD1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723DA-727C-4D9D-8098-2C160096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DD4EB-A4ED-4883-84BB-8E62DEF4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6ACB0-C99C-4332-A9BF-B55FABDE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C436-F658-46EB-9942-AB0AFF8A2E14}" type="slidenum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7438-60DD-484B-97E8-695EE51645F7}" type="slidenum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252360" y="-430560"/>
            <a:ext cx="9577440" cy="75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ffff"/>
                </a:solidFill>
                <a:latin typeface="Garamond"/>
              </a:rPr>
              <a:t>289 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bg-BG" sz="3000" spc="-1" strike="noStrike">
                <a:solidFill>
                  <a:srgbClr val="ffffff"/>
                </a:solidFill>
                <a:latin typeface="Garamond"/>
              </a:rPr>
              <a:t>299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 О, дом честит, де по-любим гост няма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от Теб, Спасите­лю, и Твоя лик!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О, дом честит, де с радост най-голяма живее този Гостенин велик!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О, дом честит, де същата надежда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и вяра две сърца в едно сплоти!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О, дом честит, де вред любов поглежда,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и пек любов от смърт ще възроди!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541440" y="665280"/>
            <a:ext cx="1008216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2. О, дом честит, що Богу посвещава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от ранна възраст малките сърца,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и де любов небесна обкръжав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и бди над мили майчини деца!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О, дом честит, де всеки Тебе служи,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мил Отче наш, във своя кът смирен,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де всяко дело обич свята движи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и цял живот е в Теб преобразен!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252360" y="-452880"/>
            <a:ext cx="9577440" cy="70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3. О, дом честит, къде при всяка радост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и при неволи, Боже, помнят Теб!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О, дом честит, де в старост и във младост от Теб очакват здраве, лек и хляб!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Де в скърби Ти Си техен Утешител, Приятел мил на чистите сърца,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додето дойдеш Ти като Спасител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да вземеш всички ни с Теб при Отца!</a:t>
            </a:r>
            <a:r>
              <a:rPr b="0" lang="bg-BG" sz="3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123</cp:lastModifiedBy>
  <dcterms:modified xsi:type="dcterms:W3CDTF">2005-10-22T16:16:48Z</dcterms:modified>
  <cp:revision>222</cp:revision>
  <dc:subject/>
  <dc:title>Slide 1</dc:title>
</cp:coreProperties>
</file>